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EE7D7-7ADE-43DB-AE97-76068A644E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29C20-F149-4C1E-B9FE-ED60CB243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FD0A9-3123-4DBA-924E-3EF75A2111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C5054-2A2A-47AF-BE31-21DF3D745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1B037-CCC8-41EA-8EB3-28EABE0CA7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B324F-041D-431D-86EF-8087768BB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91D5A-3CEC-4D28-8B45-C4A79B4DFB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B76A4-6CCC-40A9-9B50-6DBB8535C8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EBFD5-E944-4281-9C84-C3F416C27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B7823-29F7-4B83-9D5A-573876BEB8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7F0B-8B42-4E9C-900F-562AE0BED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667F-93C8-4764-B85A-B97A4EF0E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064C-C5E1-4914-B22E-1E3C17E78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0F17-8F37-44F4-B2D2-A24C93745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E8D6-7FAE-4878-90E9-C6D49AF7C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7068-C435-4BD8-A0A0-175A8BFA2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DC7A-28AA-4D4B-9484-E89942859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A51C-E56A-4ED0-8346-78FDE947D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5C25-1F79-4851-80F8-EAB88067B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D2E5-DB76-4E07-B39F-2E68210B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2383-5FD4-49DB-AD07-B7F4CEEA6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002D-FD5F-4976-843F-0462D681E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96BDF-0C67-4DE6-888C-8C25033422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Monitoring Equipment Used in the Microbiology Labora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AE0D2-F803-433B-9236-ADA385A2833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C43D1-C0E6-4D80-A5B6-9E28D99BFEB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- Microb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temperatur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ub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z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function check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s and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A72CF-06DB-446B-988A-29178278BE1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1694E-2653-4F9B-8145-7D306FBDC02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6783840" y="1295280"/>
            <a:ext cx="14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er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6707520" y="4800600"/>
            <a:ext cx="178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a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os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e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ntaminated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1C2BB-E7EB-4587-9FF9-39BC5B93169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wo Stag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 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Pro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mical indic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r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Sterile product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wth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A259B-E9C9-4760-A405-7F92CA4E933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E7299-5651-46DA-9D40-FD8918EC3CF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ty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hemical indicat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 for sterilization have been met.  Do not address time or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B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, time and pressure for sterilization have be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either indicator is a guarantee of sterilization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utoclave is overpa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roth volumes are too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E8083-27B2-4372-91BE-AA8760D7089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Log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F8D63-2A95-4B4E-8B57-79A7DB1CDC4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4060_research_large"/>
          <p:cNvPicPr/>
          <p:nvPr/>
        </p:nvPicPr>
        <p:blipFill>
          <a:blip r:embed="rId1"/>
          <a:stretch/>
        </p:blipFill>
        <p:spPr>
          <a:xfrm>
            <a:off x="45720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4114800" y="1677960"/>
            <a:ext cx="4343400" cy="44830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lens 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Have at least one oil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mmersion lens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Use spring loaded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non-immersion lens fre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f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o not allow sample to migrat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bov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th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ff00"/>
                </a:solidFill>
                <a:latin typeface="Arial Narrow"/>
              </a:rPr>
              <a:t>Maintain Kohler Illumination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WHO</cp:lastModifiedBy>
  <dcterms:modified xsi:type="dcterms:W3CDTF">2009-04-02T09:02:42Z</dcterms:modified>
  <cp:revision>2</cp:revision>
  <dc:subject/>
  <dc:title>Slide 1</dc:title>
</cp:coreProperties>
</file>